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690-ABC0-4ADA-91DC-BD2C3D5A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F5F-9BFF-4F10-932B-548406BA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54C-6989-4A7E-B7B9-301358AA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44E-4A3B-4E07-BFEF-DF3F514C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B6CB-08FD-4E7A-A6CB-4E9B8556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1C42-6C89-4C1F-B4CD-01F2DF7E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3944-D54E-4772-B682-82581D6F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B000-E07C-4C7E-99BB-EAEC032D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1CB8-DD91-4A47-9B81-1E29C9A1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C277-D282-4D8C-85EB-26D2EE86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6FE6-DFF8-4F05-9326-5B6FD504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83E-2F91-478F-8B8E-938CF524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FE1A-03BC-449F-BBC8-EA19BB0B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89A0-45B0-46FD-9B9D-D93FEB43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CEA7-52B8-4671-909E-E03A17B0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5437-6322-4B97-9827-A67A9077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3CDD-D36C-4C71-BB8F-16A5E9D1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229FB-CAA4-4DFB-B28A-B3DD03E0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F75E-01D4-46A2-BC2B-298B6C4B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C45BB-2B3C-4536-9428-8E78501C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00DAB-D57C-469C-8B38-7E7F8DEA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57F96-0F17-47E5-98DA-A04F1653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37D-037D-4CAD-AB8B-519D3F67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A4E6E-F586-42E0-91F1-57C02A66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EE5F4-1B3D-4C72-9AC5-713DA7CD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741A9-8463-41E7-9028-1A2EE6A5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217BC-4594-4806-A15C-E10A69AB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8F6BA-4791-48DC-92CB-08320D84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DBAB7-D24E-4C58-8A66-A8BE0B3E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37A28-FBDE-49C2-9C20-006874F8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5E2AB-A24C-400C-8FB1-279CE128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0607D-F5F7-46FF-81C6-342BD830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89636-A867-4472-9E99-2B4A507C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37CC-93D6-4172-8B94-9BEF1B32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723C4-4A68-4C8B-848D-2DF31341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7AB15-3D03-43DC-9A0E-F66D752F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22764-094D-41C8-9C82-888CDE3A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6CE9E-6871-4E0A-A0A0-1F4C9839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7C6F8-BCC2-44E7-8308-D0B7A3DC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43C13-B19C-4990-BD91-50934A86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D74C2-CF78-49D0-AAA9-D7307AAB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4E172-0213-4A3C-B256-D1304E53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9D7E2-7F78-4AB8-998A-9C17FA28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C946C-3796-43A2-8ED4-DE9D5F9F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298-B589-47C9-86BB-6028214A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43CBD-BC0E-4F31-BA5E-DC18EF47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CAACC-0480-4E7F-A39A-1FAD69BB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2049C-54CF-4DFD-8F6F-DDD4026B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F2966-C06C-40A3-9C31-C8E16454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347E4-D208-407A-B3A2-366E4D3C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0086B-FFC1-4F9B-9F9E-3621F595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B3CF0-15A6-4098-9452-54C84272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E8DBE-A3CC-48E5-9561-C8D8F2D1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40726-7166-4C93-BFB9-A5567F2C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02BAA-F051-440D-88C3-3244BA84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914A-DE98-4172-A5E4-121DA274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DFC8E-C07D-4A08-8D13-8BDD15F7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22C3D-DD81-4866-AF2F-41102C74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C9B64-D799-4303-AC09-075E8B77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EE50A-B996-4B8C-8079-CEC67934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9FA2C-264C-48A3-87A0-E5BC3009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D7A81-B1AA-4B63-999E-374F90A8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F150C-0C94-4E8A-8609-14A446C9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06A1E-1910-4C46-9341-4B783ABD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295BE-54FC-4365-B9FA-201CF082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9EDB2-F86D-4D04-9193-5CA96D67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04B-2141-4280-8A95-CE99DF39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8E10A-91C3-4E2B-A72A-4353AA9E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7DC96-8019-41A1-9A4D-646E37F6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DFCC2-7FF9-42D1-B668-FE97BD5D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8B8-859B-4983-975C-25C0274C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FE8-01DF-4EF3-B738-693F930A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BE02-9585-49E8-B284-B7A11C2DD266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106"/>
            </a:gs>
            <a:gs pos="100000">
              <a:srgbClr val="8d726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9F52-E6F3-463E-85EB-9175A50D99CE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106"/>
            </a:gs>
            <a:gs pos="100000">
              <a:srgbClr val="8d726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2761-20C2-4C4F-9F9E-034E3B7EDBD3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0FED-A8AE-42DB-ADDC-1B99735883CD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BF9E-AF9B-4E48-9CEA-81112E35140F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C5A4-6307-4012-838D-554FE4D7B935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603360" y="2225520"/>
            <a:ext cx="6834240" cy="24433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09120" y="4114800"/>
            <a:ext cx="64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ook Tal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 Stoo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y Should YOU read it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spenseful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crip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ought-provo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2379960" cy="2359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3733920" y="1960560"/>
            <a:ext cx="2958840" cy="2230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3"/>
          <a:stretch/>
        </p:blipFill>
        <p:spPr>
          <a:xfrm>
            <a:off x="6397560" y="4191120"/>
            <a:ext cx="25941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ear the Story’s Soun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236760" cy="2438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5715000" y="1523880"/>
            <a:ext cx="2895480" cy="4186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3"/>
          <a:stretch/>
        </p:blipFill>
        <p:spPr>
          <a:xfrm>
            <a:off x="1828800" y="4114800"/>
            <a:ext cx="38862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01:15:18Z</dcterms:created>
  <dc:creator>Tiffany A. Brewer</dc:creator>
  <dc:description/>
  <dc:language>en-US</dc:language>
  <cp:lastModifiedBy>Tiffany A. Brewer</cp:lastModifiedBy>
  <dcterms:modified xsi:type="dcterms:W3CDTF">2008-11-18T01:51:47Z</dcterms:modified>
  <cp:revision>7</cp:revision>
  <dc:subject/>
  <dc:title>Three Skeleton Key</dc:title>
</cp:coreProperties>
</file>